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AA6-E987-40E7-A440-C991BFA5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C10-AB71-4F28-B67C-40940E22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F1C-0A98-4EB6-B988-ED0338EA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C3E-1A83-4260-808E-ABD55911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2D2B-5ACD-4007-86DE-BC821E80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C27C-EEE8-46A1-A896-91C720D9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C885-0D52-4891-8D99-54CB143B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6B5D-230A-476D-B27F-9468B7A3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C0E7-2997-4935-9ED0-42664385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5171-660A-4C04-8E42-75DEEC9D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E7AD-56AD-47F8-A276-9515DC21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1DD-FED4-43C1-8AFC-5EA5EE2F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0F6D-B174-4D4F-BD68-7B6E3DF1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26FA-2629-47B6-8768-38CD0910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CC1F-2FB7-4231-A9D1-0697BB29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93F4-5F9F-4B09-8A6D-45BCB0F4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DA59-6445-462F-8AFD-E0997047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57A-B001-45A9-BD6B-5801A686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225-38B5-4679-A6A9-FF4A84DE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DED-DDAB-4184-A464-7741226A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98A-21DE-481B-B55E-9C3503EE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29E-D9BD-4D02-9F7D-3F4FD5BA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FA8-8B69-4C28-9939-CBB2DA70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512-F7FB-41E0-B5E6-7483D1C9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2A30-A016-4F26-89AC-96E554B0F33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0B1A-C008-404D-AF5D-1EADFE1CAD2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114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Cell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116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iruses are exceptions to the cell theory, but they have some characteristics of living things. What is one of these characteristics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27:30Z</dcterms:created>
  <dc:creator>WaiverDay</dc:creator>
  <dc:description/>
  <dc:language>en-US</dc:language>
  <cp:lastModifiedBy>PritchaJ</cp:lastModifiedBy>
  <dcterms:modified xsi:type="dcterms:W3CDTF">2011-06-01T14:06:36Z</dcterms:modified>
  <cp:revision>2</cp:revision>
  <dc:subject/>
  <dc:title>Cell Theory Bellringer #1</dc:title>
</cp:coreProperties>
</file>